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D88-929B-461C-9827-C49EE4F9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4A2-6DD0-46F2-9416-F2095DFD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0F6-D6C1-40D7-9A6E-7DEDCA5C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C57-1F7A-4D4B-A668-28320853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DA5-A99A-4BD6-A736-5EDDEEAE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896-FB94-4F7A-97F7-D8C3983B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7C2-3ED8-4FA2-A192-F44094AD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610-B804-4FAE-9071-BC1222CB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EF4-67A3-4371-BDAA-57BDDF0E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08F-53FA-40DA-B131-C2657B1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504-67BD-4322-845E-A6991B79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53B-45B3-4EED-A42E-91C6FC5B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CB3E-CBA8-4FD3-89FF-2EA2DA13BA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3AB0-3E9D-4DDD-ADE9-F8DA33282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9"/>
          <p:cNvSpPr/>
          <p:nvPr/>
        </p:nvSpPr>
        <p:spPr>
          <a:xfrm>
            <a:off x="573120" y="1197000"/>
            <a:ext cx="80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5d-i3"/>
          <p:cNvPicPr/>
          <p:nvPr/>
        </p:nvPicPr>
        <p:blipFill>
          <a:blip r:embed="rId2"/>
          <a:stretch/>
        </p:blipFill>
        <p:spPr>
          <a:xfrm>
            <a:off x="611280" y="2421000"/>
            <a:ext cx="3671640" cy="230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4443480" y="2492280"/>
            <a:ext cx="433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выше 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за, тем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359880" y="2781360"/>
            <a:ext cx="558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тем боль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чаще и сильнее молеку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аряются о стенки сос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50920" y="549360"/>
            <a:ext cx="76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ая соединительная линия 8"/>
          <p:cNvSpPr/>
          <p:nvPr/>
        </p:nvSpPr>
        <p:spPr>
          <a:xfrm>
            <a:off x="1476360" y="1557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0"/>
          <p:cNvSpPr/>
          <p:nvPr/>
        </p:nvSpPr>
        <p:spPr>
          <a:xfrm>
            <a:off x="147636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3"/>
          <p:cNvSpPr/>
          <p:nvPr/>
        </p:nvSpPr>
        <p:spPr>
          <a:xfrm>
            <a:off x="1476360" y="26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5"/>
          <p:cNvSpPr/>
          <p:nvPr/>
        </p:nvSpPr>
        <p:spPr>
          <a:xfrm>
            <a:off x="320364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7"/>
          <p:cNvSpPr/>
          <p:nvPr/>
        </p:nvSpPr>
        <p:spPr>
          <a:xfrm>
            <a:off x="3203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2"/>
          <p:cNvSpPr/>
          <p:nvPr/>
        </p:nvSpPr>
        <p:spPr>
          <a:xfrm>
            <a:off x="320364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5"/>
          <p:cNvSpPr/>
          <p:nvPr/>
        </p:nvSpPr>
        <p:spPr>
          <a:xfrm>
            <a:off x="3203640" y="220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6"/>
          <p:cNvSpPr/>
          <p:nvPr/>
        </p:nvSpPr>
        <p:spPr>
          <a:xfrm>
            <a:off x="4356000" y="263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7"/>
          <p:cNvSpPr/>
          <p:nvPr/>
        </p:nvSpPr>
        <p:spPr>
          <a:xfrm>
            <a:off x="4356000" y="1557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8"/>
          <p:cNvSpPr/>
          <p:nvPr/>
        </p:nvSpPr>
        <p:spPr>
          <a:xfrm>
            <a:off x="608472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9"/>
          <p:cNvSpPr/>
          <p:nvPr/>
        </p:nvSpPr>
        <p:spPr>
          <a:xfrm>
            <a:off x="435600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0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2"/>
          <p:cNvSpPr/>
          <p:nvPr/>
        </p:nvSpPr>
        <p:spPr>
          <a:xfrm>
            <a:off x="378000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6"/>
          <p:cNvSpPr/>
          <p:nvPr/>
        </p:nvSpPr>
        <p:spPr>
          <a:xfrm>
            <a:off x="3708360" y="1773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363816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1842120" y="18446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8 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852480" y="3068640"/>
            <a:ext cx="72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одинаковых сосуда соединены труб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дном из них находится газ под д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,008 Па, в другом молекулы г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уют (сосуд пустой). Каким ста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ление газа в сосудах, если открыть кран 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16080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3029040" cy="3027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996640" y="306864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Что общ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7375e"/>
                </a:solidFill>
                <a:latin typeface="Arial"/>
                <a:ea typeface="Arial"/>
              </a:rPr>
              <a:t>Давление газ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348000" y="2708280"/>
            <a:ext cx="54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вление газа создаё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дарами молеку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 стенки сос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5d-i1"/>
          <p:cNvPicPr/>
          <p:nvPr/>
        </p:nvPicPr>
        <p:blipFill>
          <a:blip r:embed="rId2"/>
          <a:stretch/>
        </p:blipFill>
        <p:spPr>
          <a:xfrm>
            <a:off x="684360" y="2708280"/>
            <a:ext cx="3600360" cy="188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75080" y="2421000"/>
            <a:ext cx="44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лочка приним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 шара, так как г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ит на все стенки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направле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инак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232000" cy="3306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508560" y="2492280"/>
            <a:ext cx="537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уменьш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величив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при увелич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9:59:45Z</dcterms:created>
  <dc:creator>дом</dc:creator>
  <dc:description>http://aida.ucoz.ru</dc:description>
  <dc:language>en-US</dc:language>
  <cp:lastModifiedBy>Tania Wolf</cp:lastModifiedBy>
  <dcterms:modified xsi:type="dcterms:W3CDTF">2013-01-29T20:15:06Z</dcterms:modified>
  <cp:revision>26</cp:revision>
  <dc:subject/>
  <dc:title>Слайд 1</dc:title>
</cp:coreProperties>
</file>